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37E-45AF-4C6A-9DD3-0EDB1CB27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75E-9D42-42FB-9F3D-DA441633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05DE-DB89-411E-8BBC-42D5DC64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47A-7E25-4586-90C5-2376E133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EA1D-F0EC-4E0B-AC14-36F75618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70FC-8BBC-46B1-8984-EB3DC999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CE21-AA5A-4399-8EC2-0A79D15D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2C2C-9D35-42B1-9695-D956869B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09A5-CFE2-4DE7-8B57-8A88806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2BE4-13FB-487B-9696-9246CCEA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0982-1321-4AC2-8815-8900F29D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B53-E5F8-44E2-9B00-FF358718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EEB-8A2C-4106-9BDD-E8B9B461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0DED-70E0-48FB-BEE3-608BAE28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9FA-B08D-473C-AC14-3D64AC96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C542-2ACD-4716-98B9-90C829C7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03B2-8724-4D41-AC32-BE1E7AAB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7C5-7CEB-4AC1-A2FB-19B542CB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455-0049-407B-9FEC-3D8B1F89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EB5-1F51-4F63-B48C-8CC9375E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5414-5CA7-4898-94A4-02DA55B9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2B8-6F52-4E6C-8A73-D8E8B690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0F9-6D19-49D2-BC60-13E90BF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0CF0-547A-4EE9-BFDD-625F56D2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864E-6930-42CC-AB3D-7EF5FAB0A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1EFF-A4E5-44AD-8B5A-0FB39C7DB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Marek Bubelín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           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ANALÝZA                                                 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    STRUKTURY                                                              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     HLAVNÍHO                                           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         MĚSTA                          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3333"/>
                </a:solidFill>
                <a:latin typeface="Arial"/>
              </a:rPr>
              <a:t>         PRAH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gistrát hl. m. Prah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voří jej ředitel a další zaměstnanci hl. m. Prahy zařazení do tohoto orgá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am. působnosti plní úkoly uložené zastupitelstvem či radou (resp.primátorem), přičemž ředitel je odpovědný primátor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konává přenesenou působnost: přezkoumává rozhodnutí městských částí ve správním řízení; řídí výkon přenesené působnosti orgány městských částí 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ční strukturu stanovuje org. řád (odbory, oddělení ad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Zastupitelstvo městské části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členů zastupitelstva městské časti se pohybuje mezi 5 až 45 a to podle počtu obyvatel a velikosti územního obvodu městské čá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omoci a postupy viz. výš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bory, komi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ada městské části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členů 5 až 9 a nesmí překročit 1/3 počtu členů zastupitelstva, není tam, kde je méně než 15 členů zastupitelst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omoci a postupy opět viz. výš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Úřad městské části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vomoci a postupy jak jinak než viz. výš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oří jej starosta, místostarostové, tajemník (je-li tato funkce zřízena) a další zaměstnan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bory, oddělení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ídlem ústředních orgánů ČR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nceláře: Poslanecké sněmovny  a Senátu Parlamentu ČR, prezidenta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Úřad vlády ČR + všechna ministerst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K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rchní soud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rchní státní zastupitelství Pra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eský statistický úř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eský telekomunikační úř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Český úřad zeměměřický a katastr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nd národního majetku 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lší ústřední orgány jsou především v Brně a Olomou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 to je vše..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Analýza struktury hlavního města Prah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ákladní úda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 město České republ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voj po 11. století až do dnešní podo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loha: 496 k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ž znamená asi 0,6% území České republi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čet obyvatel: 1 187 000, přičemž od roku 1994 počet obyvatel každoročně kles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ží v srdci Evropy (téměř stejně daleko od tří moří: Baltské, Severní a Čern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klopeno Středočeským kra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ajímavos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čně navštíví Prahu 3 mil. turist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ické centrum města s jedinečným panoramatem Pražského hradu je památkovou rezervací UNE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starší části: Staré Město, Malá Strana, Nové Město a Hradč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lední úpravy hranic Prahy:                         1974-připojeno dosud 30 samostatných obcí Středočeského kr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Členění hlavního města Prah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ha j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městem ČR, obcí, statutárním městem a zároveň vyšším územně samosprávným celkem – kra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leněna n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lban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2 městských správních obvod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lban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 městských čás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lban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2 katastrálních územ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ravována orgány samosprávy a státní správy dle zákona 131/2000 Sb., zvláštních zákonů nebo Statutu hl. m. Pra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696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Členění hl. města Prahy-pokračování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ány hl. m. Prahy: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Zastupitelstvo hl. m. Prahy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ada hl. m. Prahy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Primátor hl. m. Prahy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Magistrát hl. m. Prahy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Městská policie hl. m. Pra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ány městských částí: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Zastupitelstvo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Rada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Úřad městské části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Zastupitelstvo hl. m. Prah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hoduje ve věcech patřících do samostatné působnosti hl. m. Pra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ládá se z členů zastupitelstva, jejichž počet se pohybuje mezi 55 až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oučasnosti 70 členů na období 4 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teré pravomoci: volba primátora, jeho náměstků a členů rady; vydávání obecně závazných vyhlášek; schvalování rozpočtu a závěrečného účtu; vyhlášení místního referenda; návrhy změn katastr. území; zřizování městské policie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Rada hl. m. Prah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konný orgán odpovědný ze své činnosti zastupitelstv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pravuje návrhy pro jednání zastupitelstva a zabezpečuje plnění jím přijatých usnese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 11 členů (primátor, náměstkové a ostatní členové r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t. pravomoci: zabezpečení hospodaření; ukládání úkolů Magistrátu; stanovení pravidel pro přijímání a vyřizování petic a stížností; na návrh ředitele Magistrátu zřizovat a rušit odbory Magistrátu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imátor hl. m. Prahy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současnosti je jím MUDr. Pavel B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tupuje hlavní město Prahu naven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konává funkci hejtmana, pokud zákon nestanoví jin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lban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ěkt. pravomoci: podepisuje právní předpisy hl. m. Prahy; po souhlasu MV jmenuje a odvolává ředitele Magistrátu,  ukládá mu úkoly a stanovuje plat dle předpisů; řídí a svolává zasedání rady a zastupitelstva a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6:44:49Z</dcterms:created>
  <dc:creator>SVI ESF MU</dc:creator>
  <dc:description/>
  <dc:language>en-US</dc:language>
  <cp:lastModifiedBy>SVI ESF MU </cp:lastModifiedBy>
  <dcterms:modified xsi:type="dcterms:W3CDTF">2004-05-10T06:42:47Z</dcterms:modified>
  <cp:revision>4</cp:revision>
  <dc:subject/>
  <dc:title>Marek Bubelíny </dc:title>
</cp:coreProperties>
</file>